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CEEAC-30DA-45C0-8213-E63E3850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3B39A-FB26-4384-B53B-45C2216E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8D91E-A1D3-4C1F-951E-02E003A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2DEE2-856C-43BF-A500-C471E762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75F682-3B51-4E39-A3A8-F28C7214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69F85-0BA3-44CD-A67D-D2B834B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A15F8-7345-4B89-AF16-A406BA4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7E333-4D5C-40DF-AD4C-8ACED1A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A693C-B864-4B5E-89DA-14CEAA41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87104-8091-4B58-B390-FB738AF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FCA07-C52C-4405-A867-3D1E0F4F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8936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96120" y="134100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60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8936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96120" y="3840120"/>
            <a:ext cx="24822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13ED01-3F87-4E97-A297-BEF8D435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82240" y="274320"/>
            <a:ext cx="764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3240" y="384012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3240" y="1341000"/>
            <a:ext cx="37620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840120"/>
            <a:ext cx="77090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1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e5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0" y="234324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0" y="24192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0" y="327024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3429000" y="533520"/>
            <a:ext cx="2266920" cy="1422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066680" y="4800600"/>
            <a:ext cx="6934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258920" y="270180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-12600"/>
            <a:ext cx="9144000" cy="6870600"/>
            <a:chOff x="0" y="-12600"/>
            <a:chExt cx="9144000" cy="6870600"/>
          </a:xfrm>
        </p:grpSpPr>
        <p:sp>
          <p:nvSpPr>
            <p:cNvPr id="100" name="Rectangle 3"/>
            <p:cNvSpPr/>
            <p:nvPr/>
          </p:nvSpPr>
          <p:spPr>
            <a:xfrm>
              <a:off x="0" y="-12600"/>
              <a:ext cx="9144000" cy="106668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0" y="6336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0" y="914400"/>
              <a:ext cx="9144000" cy="7632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0" y="6578640"/>
              <a:ext cx="9144000" cy="279360"/>
            </a:xfrm>
            <a:prstGeom prst="rect">
              <a:avLst/>
            </a:prstGeom>
            <a:solidFill>
              <a:srgbClr val="1e5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0" y="6654960"/>
              <a:ext cx="9144000" cy="759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160200" y="76320"/>
            <a:ext cx="882360" cy="887400"/>
            <a:chOff x="160200" y="76320"/>
            <a:chExt cx="882360" cy="887400"/>
          </a:xfrm>
        </p:grpSpPr>
        <p:sp>
          <p:nvSpPr>
            <p:cNvPr id="106" name="Rectangle 13"/>
            <p:cNvSpPr/>
            <p:nvPr/>
          </p:nvSpPr>
          <p:spPr>
            <a:xfrm>
              <a:off x="160200" y="147600"/>
              <a:ext cx="818640" cy="816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  <p:sp>
          <p:nvSpPr>
            <p:cNvPr id="107" name="Freeform 14"/>
            <p:cNvSpPr/>
            <p:nvPr/>
          </p:nvSpPr>
          <p:spPr>
            <a:xfrm>
              <a:off x="223560" y="76320"/>
              <a:ext cx="819000" cy="815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514" h="514">
                  <a:moveTo>
                    <a:pt x="0" y="0"/>
                  </a:moveTo>
                  <a:lnTo>
                    <a:pt x="514" y="0"/>
                  </a:lnTo>
                  <a:lnTo>
                    <a:pt x="514" y="0"/>
                  </a:lnTo>
                  <a:lnTo>
                    <a:pt x="514" y="0"/>
                  </a:lnTo>
                  <a:lnTo>
                    <a:pt x="514" y="514"/>
                  </a:lnTo>
                  <a:lnTo>
                    <a:pt x="514" y="514"/>
                  </a:lnTo>
                  <a:lnTo>
                    <a:pt x="474" y="514"/>
                  </a:lnTo>
                  <a:lnTo>
                    <a:pt x="439" y="512"/>
                  </a:lnTo>
                  <a:lnTo>
                    <a:pt x="408" y="508"/>
                  </a:lnTo>
                  <a:lnTo>
                    <a:pt x="377" y="501"/>
                  </a:lnTo>
                  <a:lnTo>
                    <a:pt x="324" y="488"/>
                  </a:lnTo>
                  <a:lnTo>
                    <a:pt x="275" y="477"/>
                  </a:lnTo>
                  <a:lnTo>
                    <a:pt x="249" y="473"/>
                  </a:lnTo>
                  <a:lnTo>
                    <a:pt x="222" y="468"/>
                  </a:lnTo>
                  <a:lnTo>
                    <a:pt x="194" y="468"/>
                  </a:lnTo>
                  <a:lnTo>
                    <a:pt x="163" y="470"/>
                  </a:lnTo>
                  <a:lnTo>
                    <a:pt x="130" y="477"/>
                  </a:lnTo>
                  <a:lnTo>
                    <a:pt x="90" y="486"/>
                  </a:lnTo>
                  <a:lnTo>
                    <a:pt x="48" y="497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900" spc="-1" strike="noStrike">
                <a:solidFill>
                  <a:srgbClr val="1e5aa0"/>
                </a:solidFill>
                <a:latin typeface="Verdana"/>
              </a:endParaRPr>
            </a:p>
          </p:txBody>
        </p:sp>
      </p:grpSp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225360" y="228600"/>
            <a:ext cx="781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 algn="just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6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-08-05 prérentrée des CE © DDEC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1B0-AFE3-4986-9AED-9BEA6A139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Référentiel de gouvernance : une démarche de progrès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urnée du 20 novembre 2009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229360"/>
            <a:ext cx="748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sentation du référentiel</a:t>
            </a:r>
            <a:endParaRPr b="0" i="1" lang="en-US" sz="18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428840" y="6087960"/>
            <a:ext cx="6400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vec le soutien du crédit coopératif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5950080"/>
            <a:ext cx="806400" cy="55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ésentation des différents axes du référenti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éférentiel de gouvernance des OGE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92600" cy="503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1 : 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s et objectif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finit sa mission et ses objectif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 rapport Projet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publie son rapport d’ori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daction du rapport d’orient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ien avec les orientations du projet d’établissement et en conformité avec les orientations du CODI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écrit son règlement intérieur et l’ado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xer un calendrier des réun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r le principe de non rémunération des  membres de l’OGEC (évoquer le remboursement des frais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2 : 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ation et foncti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80312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’organisme décrit sa structur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personnes et leurs fonc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rganigramme pour les organes (AG, CA, bureau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es délégations de responsabilités sont formalisé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duction des délibérations et procès-verbaux du CA donnant les délégations 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Président d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u Chef d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3 : Gestion des 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ichesses huma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85520" y="121392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eux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salariés, en lien avec le chef d’établissement, dans le cadre d’une politique sociale ouverte au dialogue et respectueuse des personn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rganisme met en œuvre une gestion des richesses humaines vis-à-vis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salari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établit le contrat de travail du chef d’établissement après nomination de celui-ci par la tut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hef d’établissement reçoit délégation écrite pour la gestion du personnel ; le CA de l’OGEC s’assure qu’il en est rendu compte régulièrement, notamment sur les points suivants : liste des postes, procédure de recrutement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s’assure que les recrutements proposés par le chef d’établissement sont effectués dans la limite des postes inscrits au budge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cosigne avec le chef d’établissement les contrats de travai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veille à l’application des conventions collectives et statuts et à la mise en place de l’EAAD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s-à-vis des él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09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président de l’OGEC signe la charte du présid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haque élu signe une convention d’engagements réciproque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établit un parcours d’intégration et d’accompagnement des nouveaux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met en œuvre les moyens nécessaires à la formation de ses él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 service d’un projet d’é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4 : 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0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tre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Gestion prévisionnell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mptes annuel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nalyse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rôle inter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9959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du chef d’établissement 1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er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 et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degr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mettre en œuvre un plan pluriannuel d’investissement, un budget annuel de fonctionnement et un budget annuel d’invest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contrôler l’exéc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prévisionn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type FNOGEC, INDICES PREVISIONN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qui intègrent un module prévisionne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élibérations: arrêté en CA avant le 31/08, approbation en AG avant le 28/02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cuments intermédiaires de contrôle de l’exécution des budget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situation au 28/02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7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églementation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 comptable de l’enseignement catholiqu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r et respecter un planning interne et statutaire préc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lôturer les comptes de l’exercice : contrôler, inventorier, révis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image fidèl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 et approuver le compte de fonctionnement, le bilan et l’annex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omptes agrég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2196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s 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entre de gestion EC ou l’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A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e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-8712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AG de l’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65556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66840"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tes annu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ogiciels de gestion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ableaux de synthèse, déclarations TPG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30/11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lanning écrit de clôture, d’arrêté et d’approbation des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suivi et révision des comptes OGEC, mis à jour et à disposition des responsabl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dans les délais fixé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apport annuel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limenter la base économique Enseignement cathol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udier les tableaux de bord INDICES de l’observatoire économiqu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r les indicateu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eur économique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G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93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bservatoire INDICES, et autres outils d’analyse financière adap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utils de contrôle budgétair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ossier de gestion établi par l’observateur économique EC ou l’expert-comptable dans les délais fix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ntrôle du respect des différents planning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539640" y="1628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5786280" y="1214280"/>
            <a:ext cx="2880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OJET D’EDUCATION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43720" y="5286240"/>
            <a:ext cx="295272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MISSIONS et OBJECTIF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’OGEC 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Fonctionnement Organis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285840" y="5286240"/>
            <a:ext cx="2735280" cy="115272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LETTRE de MISS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u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85840" y="1214280"/>
            <a:ext cx="302400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ORIENTATIONS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e la Tutelle congréganiste ou diocésai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2286000" y="2714760"/>
            <a:ext cx="4248000" cy="201600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nseigner</a:t>
            </a:r>
            <a:r>
              <a:rPr b="0" i="1" lang="en-US" sz="900" spc="-1" strike="noStrike">
                <a:solidFill>
                  <a:srgbClr val="1e5aa0"/>
                </a:solidFill>
                <a:latin typeface="Verdana"/>
              </a:rPr>
              <a:t>                          </a:t>
            </a: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Eduqu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e5aa0"/>
                </a:solidFill>
                <a:latin typeface="Verdana"/>
              </a:rPr>
              <a:t>Propose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684360" y="623736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3" name="Line 38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4" name="Line 39"/>
          <p:cNvSpPr/>
          <p:nvPr/>
        </p:nvSpPr>
        <p:spPr>
          <a:xfrm flipV="1">
            <a:off x="4788000" y="335772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5" name="Line 40"/>
          <p:cNvSpPr/>
          <p:nvPr/>
        </p:nvSpPr>
        <p:spPr>
          <a:xfrm flipH="1" flipV="1">
            <a:off x="3492000" y="335772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5999040" y="250020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7" name="Line 42"/>
          <p:cNvSpPr/>
          <p:nvPr/>
        </p:nvSpPr>
        <p:spPr>
          <a:xfrm flipH="1">
            <a:off x="6286680" y="250020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5999040" y="271620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607212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0" name="Line 45"/>
          <p:cNvSpPr/>
          <p:nvPr/>
        </p:nvSpPr>
        <p:spPr>
          <a:xfrm>
            <a:off x="6359400" y="442908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1" name="Line 46"/>
          <p:cNvSpPr/>
          <p:nvPr/>
        </p:nvSpPr>
        <p:spPr>
          <a:xfrm>
            <a:off x="6072120" y="46450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2" name="Line 47"/>
          <p:cNvSpPr/>
          <p:nvPr/>
        </p:nvSpPr>
        <p:spPr>
          <a:xfrm>
            <a:off x="2359080" y="442908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3" name="Line 48"/>
          <p:cNvSpPr/>
          <p:nvPr/>
        </p:nvSpPr>
        <p:spPr>
          <a:xfrm flipH="1">
            <a:off x="2071800" y="442908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4" name="Line 49"/>
          <p:cNvSpPr/>
          <p:nvPr/>
        </p:nvSpPr>
        <p:spPr>
          <a:xfrm flipH="1">
            <a:off x="2071800" y="4645080"/>
            <a:ext cx="576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5" name="Line 50"/>
          <p:cNvSpPr/>
          <p:nvPr/>
        </p:nvSpPr>
        <p:spPr>
          <a:xfrm flipV="1">
            <a:off x="2859120" y="26445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6" name="Line 51"/>
          <p:cNvSpPr/>
          <p:nvPr/>
        </p:nvSpPr>
        <p:spPr>
          <a:xfrm flipH="1" flipV="1">
            <a:off x="2643120" y="235692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7" name="Line 52"/>
          <p:cNvSpPr/>
          <p:nvPr/>
        </p:nvSpPr>
        <p:spPr>
          <a:xfrm>
            <a:off x="2643120" y="235728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8" name="Line 53"/>
          <p:cNvSpPr/>
          <p:nvPr/>
        </p:nvSpPr>
        <p:spPr>
          <a:xfrm>
            <a:off x="1332000" y="2276640"/>
            <a:ext cx="25200" cy="29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79" name="Line 54"/>
          <p:cNvSpPr/>
          <p:nvPr/>
        </p:nvSpPr>
        <p:spPr>
          <a:xfrm>
            <a:off x="7429680" y="228600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3348000" y="1700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81" name="Line 56"/>
          <p:cNvSpPr/>
          <p:nvPr/>
        </p:nvSpPr>
        <p:spPr>
          <a:xfrm>
            <a:off x="3071880" y="58579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70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ègles législatives liées à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amp légal d’investigation du 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ttre en place des procédures de contrôle intern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hats, investissements, familles, paie, trésoreri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er, évaluer et mettre à jour ces procédures en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ôle inter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8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illes types de procédure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guides FNOGEC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ise à jour du manuel de procédures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action permanent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5 : 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unication et transpa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090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établit un rapport de ges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respecte ses obligations déclaratives dans les délais imparti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796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507960" indent="-50796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demandes, remarques et réclamations relatives à l’activité OGEC, sont prises en compt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Établissement du rapport de gestion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17480"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Rapport moral de la vie associative, rapport financier, rapport d’orientation de l’association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pport de ge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35172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 et 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rame type de rapport de gestion : DSEL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Verdana"/>
              </a:rPr>
              <a:t>(y ajouter en préambule, propre à chaque OGEC, le rapport moral de la vie associative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517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2740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rêté du rapport écrit par le CA et approbation par l’AG, dans le respect du calendrier </a:t>
            </a:r>
            <a:r>
              <a:rPr b="0" i="1" lang="en-US" sz="1600" spc="-1" strike="noStrike">
                <a:solidFill>
                  <a:srgbClr val="000066"/>
                </a:solidFill>
                <a:latin typeface="Verdana"/>
              </a:rPr>
              <a:t>(dans les six mois de la clôture de l’exercice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27400" indent="0" algn="just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172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64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tatuts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l’éduc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de de commerc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extes législatifs sur la transparence financièr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ablissement de 4 listes de documents 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(A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Déclarations GS CFRR et GS CFRA (TPG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annuels + rapport CAC ( JO 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722160" algn="just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tes sectoriels (Tiers financeurs)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300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ptables et Attachés de ges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entre de gestion EC, expert-comptabl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ommissaire aux comp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hefs d’établiss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ligations déclar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SEL, guide comptable et financier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tableau des obligations financières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 la présentation des documents et des délai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extes de référence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uide démarche qualité et contrôle interne FN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anuel des procédures entériné par le CA OGEC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792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ion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registrer les demandes, remarques, réclamations…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t les traite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c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3820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L’ensemble des membres du personnel de l’établissement et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 l’associ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38200" indent="0" algn="just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80028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Un Projet d’Education porteur d’Espérance humaine et chrétie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Vous devez toujours être prêts à vous expliquer devant tous ceux qui vous demandent de rendre compte de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l’Espérance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qui est en vous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(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Verdana"/>
              </a:rPr>
              <a:t>èr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lettre de Pierre 3, 15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mandes, remarques et récla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5892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Outils :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ches individuelles de réclamation ou de non-conformité 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classées par grands circuits de procédures : familles, achats, social, gestion financière, courrier)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istre des réclamations ou des  non conformités </a:t>
            </a:r>
            <a:br>
              <a:rPr sz="1800"/>
            </a:b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(à disposition du CA OGEC et des chefs d’établissement)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3" marL="54288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4680" algn="just">
              <a:spcBef>
                <a:spcPts val="499"/>
              </a:spcBef>
              <a:spcAft>
                <a:spcPts val="1250"/>
              </a:spcAft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dicateur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spect des délais de traitement et de réponse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54288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nalyse de la synthèse des réclamations et des non conformités dans le calendrier fixé initiale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358920" indent="0" algn="just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4960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xe 6 : Responsabilité sociétale 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veloppement dur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ponsabilité sociétale et développement dur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rois objectifs principaux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e cadre de l’élaboration de son rapport d’orientation et de l’exécution des plans et budgets, le CA de l’OGEC veille, avec le chef d’établissement, au respect de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s’assure que l’établissement est ouvert à tou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’OGEC appartient à des rése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egard particulier sur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s économies d’énergie et de consommables (baisse de la consommation de gaz, eau, électricité, baisse de l’impression papier…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749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a politique de transports et l’utilisation de produits ou services qui ne nuisent pas à l’environ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ablissement ouvert à t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s’assurent de la conformité réglementaire et de l’accessibilité des locaux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dispose d’un plan à jour de l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t le chef d’établissement veillent à l’application des règles d’hygiène, de sécurité…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ans l’élaboration du budget avec le chef d’établissement, le CA de l’OGEC s’assure de l’égalité d’accès et de traitement entre les familles, dans le cadre des préconisations de l’Enseignement catholiqu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artenance à des réseau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, en lien avec le chef d’établissement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Veille à l’optimisation des coûts, met en place une mise en commun de moyens, une mutualisation des acha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rée des réseaux permettant de définir des synergies et de bâtir des projets commu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ticipe à des fonds de solidarité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51"/>
              </a:spcBef>
              <a:spcAft>
                <a:spcPts val="1125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avorise la convivialité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Le CA de l’OGEC est représenté aux structures institutionnelles et aux temps forts de ces structures afin de développer un sentiment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ientations de la tutel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évelopper une culture d’appartenanc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ffirmer et de vivre l’Identité et la Mission de l’Enseignement Catholique au sein de chaque communauté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Oser l’innovation et l’expérimentatio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valoriser l’audace pédagogique et éducativ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Impulser et accompagner les changement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’anticiper les évolutions à conduir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Reconnaître et promouvoir la person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1001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Verdana"/>
              </a:rPr>
              <a:t>Prenons, ensemble, le parti de croire en l’Homme engagé dans « l’Oeuvre de création 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440" y="1571400"/>
            <a:ext cx="77086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« 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Mission d’Enseigner, d’Eduquer et de Proposer un sens chrétien de l’Homme et de la vie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 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référer au statut de l’Enseignement Catholique de 1992 et 1996, à la démarche d’Assises, aux orientations diocésaines et congréganistes (charisme fondateur) et au statut du Chef d’établiss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tre de mission du chef d’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2960" y="1356840"/>
            <a:ext cx="77090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601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ettre en œuvre les objectifs prioritaires suivants 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Connaître et reconnaître les personnes et les structures afin de comprendre et d’intégrer l’histoire, l’identité et la cultur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Encourager et soutenir l’implication des enseignants et de l’ensemble de personnels dans l’animation pédagogique et éducative de l’établissement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nimer le projet pastoral en lien avec les acteurs paroissiaux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Associer les parents à la vie de l’établissement : il est important de nommer  les projets de restructuration, de construction, d’aménagement ou de travaux  à conduire avec l’OGEC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Développer la synergie de réseau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Privilégier le management participatif et la communication interne et externe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276720" y="1413000"/>
            <a:ext cx="287964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service en Eglis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’établissement se situe dans une Eglise diocésaine et une réalité paroissial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156360" y="2995560"/>
            <a:ext cx="2879640" cy="1079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établissement voulu et choisi par les Parents…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où ils sont invités à s’engager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148360" y="4941720"/>
            <a:ext cx="381636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gestion au service de la Mission d’Instruction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Un immobilier et des équipements accueillants et fonctionnels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79280" y="4941720"/>
            <a:ext cx="4464000" cy="129564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e Communauté Educative mobilisée autour du chef d’établissement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Principe d’exemplarité éducativ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    le « dire » et le « faire »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e « croire » et le « vivre »…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79280" y="2924280"/>
            <a:ext cx="2880000" cy="1079280"/>
          </a:xfrm>
          <a:prstGeom prst="rect">
            <a:avLst/>
          </a:prstGeom>
          <a:solidFill>
            <a:srgbClr val="ffee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Verdana"/>
              </a:rPr>
              <a:t>Un Projet d’Enseignement et d’Education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Inspiré et fondé par un sens chrétien de l’Homme et de la Vie</a:t>
            </a:r>
            <a:endParaRPr b="0" i="1" lang="en-US" sz="14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3276720" y="2708280"/>
            <a:ext cx="2735280" cy="1944720"/>
          </a:xfrm>
          <a:prstGeom prst="ellipse">
            <a:avLst/>
          </a:prstGeom>
          <a:solidFill>
            <a:srgbClr val="fed9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mission de service public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e5aa0"/>
                </a:solidFill>
                <a:latin typeface="Verdana"/>
              </a:rPr>
              <a:t>Une institution éducative chrétienne</a:t>
            </a:r>
            <a:endParaRPr b="0" i="1" lang="en-US" sz="16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464328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012000" y="35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8" name="Line 14"/>
          <p:cNvSpPr/>
          <p:nvPr/>
        </p:nvSpPr>
        <p:spPr>
          <a:xfrm flipH="1">
            <a:off x="3059280" y="3573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199" name="Line 15"/>
          <p:cNvSpPr/>
          <p:nvPr/>
        </p:nvSpPr>
        <p:spPr>
          <a:xfrm flipH="1">
            <a:off x="3492360" y="4508640"/>
            <a:ext cx="43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5364000" y="4508640"/>
            <a:ext cx="50328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643280" y="5589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971640" y="400536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3" name="Line 19"/>
          <p:cNvSpPr/>
          <p:nvPr/>
        </p:nvSpPr>
        <p:spPr>
          <a:xfrm flipH="1">
            <a:off x="7812000" y="40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900000" y="2205000"/>
            <a:ext cx="237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156360" y="2205000"/>
            <a:ext cx="216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1e5aa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5 clés d’un établiss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22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090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250"/>
              </a:spcAft>
              <a:buClr>
                <a:srgbClr val="f399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Référentiel de gouvernance : un outil au service du bon fonctionnement du trépied institutionnel (tutelle, chef d’établissement et OGEC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8:49:49Z</dcterms:created>
  <dc:creator>jmlelievre</dc:creator>
  <dc:description/>
  <dc:language>en-US</dc:language>
  <cp:lastModifiedBy>aregnault</cp:lastModifiedBy>
  <dcterms:modified xsi:type="dcterms:W3CDTF">2009-11-18T14:53:38Z</dcterms:modified>
  <cp:revision>55</cp:revision>
  <dc:subject/>
  <dc:title>Journée des permanents des URO/UDOGEC</dc:title>
</cp:coreProperties>
</file>